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7.gif" ContentType="image/gif"/>
  <Override PartName="/ppt/media/image12.png" ContentType="image/png"/>
  <Override PartName="/ppt/media/image2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25.jpeg" ContentType="image/jpeg"/>
  <Override PartName="/ppt/media/image24.jpeg" ContentType="image/jpeg"/>
  <Override PartName="/ppt/media/image5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1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2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3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5BC2-A678-4B5A-8B28-A8EDFA8FEF1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cyberschool.oxfam.org.hk/articles.php?id=98&amp;page=2" TargetMode="External"/><Relationship Id="rId3" Type="http://schemas.openxmlformats.org/officeDocument/2006/relationships/hyperlink" Target="http://www.youtube.com/watch?v=0LXk1wrPAI4" TargetMode="External"/><Relationship Id="rId4" Type="http://schemas.openxmlformats.org/officeDocument/2006/relationships/hyperlink" Target="http://www.youtube.com/watch?v=6hOc370qVME" TargetMode="External"/><Relationship Id="rId5" Type="http://schemas.openxmlformats.org/officeDocument/2006/relationships/hyperlink" Target="http://www.weather.gov.hk/climate_change/climate_change_c.htm" TargetMode="External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legco.gov.hk/yr05-06/chinese/sec/library/0506in37-c.pdf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hkkids.com/green/green-topic01-story01.htm" TargetMode="External"/><Relationship Id="rId3" Type="http://schemas.openxmlformats.org/officeDocument/2006/relationships/hyperlink" Target="http://www.cfs.gov.hk/tc_chi/programme/programme_rafs/programme_rafs_fc_02_11.html" TargetMode="External"/><Relationship Id="rId4" Type="http://schemas.openxmlformats.org/officeDocument/2006/relationships/hyperlink" Target="http://www.hkkids.com/green/green-topic01-story01.htm" TargetMode="External"/><Relationship Id="rId5" Type="http://schemas.openxmlformats.org/officeDocument/2006/relationships/slide" Target="../slides/slide6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hk.epochtimes.com/11/8/11/141384.htm" TargetMode="External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6D85-BE98-42C2-8B18-8EA9D31B6D4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6DF1-1E3F-46AB-AEDF-093F0256D89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38D0-E0A8-4996-BB56-83C350F2E4C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A6DB-46E1-4982-995C-4EFAE424BFD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石油耗盡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能源短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塑膠是經石油提煉出來的副產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一噸膠袋大約需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桶石油的能源製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石油是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不可再生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化石原料，在數十年內便會耗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reensense.org.hk/plasticbag/subpage1b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9608-9EDE-42D1-9444-CE4EF6D3A7A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製造塑膠的過程中產生溫室氣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甚麼是溫室氣體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大氣層中主要的溫室氣體可有二氧化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tr-TR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甲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tr-TR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一氧化二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tr-TR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O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氯氟碳化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CFCs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及臭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tr-TR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空氣中的溫室氣體會阻礙地球將熱量射回太空。溫室氣體會吸收部份地球釋放的紅外線，然後再釋放紅外線，將部份熱量射回太空，但亦有部份熱量射回地球，形成所謂溫室效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溫室氣體濃度的增加會減少紅外線輻射放射到太空外，這令全球性的地球表面及大氣低層變暖（溫室氣體好像一張毯子般，把太陽的熱能吸收之餘，亦會把熱能困於地球表面，令地面愈來愈熱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溫室氣體對</a:t>
            </a:r>
            <a:r>
              <a:rPr b="1" i="1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環境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有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全球增溫／極端氣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專家指出，如全球二氧化碳排放量在未來維持不變，到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5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，全球平均氣溫將上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3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到了本世紀末，氣溫更會上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-6℃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有可能沒有冬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非洲大陸的氣溫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前上升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天氣更有兩極化的趨勢，其中東部、西部、北部及南部部分地區的乾旱及半乾旱地帶，均日見乾旱；但非洲赤度及其餘的南部地區卻愈來愈濕，暴雨頻繁，易有水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水位上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北極地區氣候上升，在過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，阿拉斯加與西伯利亞氣溫上升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3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引致融雪提早以及冰川融化，水位因而上升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過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，香港的海平面上升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溫室氣體對</a:t>
            </a:r>
            <a:r>
              <a:rPr b="1" i="1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生態系統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有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有研究指出，全球增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℃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已足以令世界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陸地生物面臨絕種，整個生態系統受影響，人類亦會受到威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生物遷移的種類及大火災的風險增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全球面臨絕種危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溫室氣體對</a:t>
            </a:r>
            <a:r>
              <a:rPr b="1" i="1" lang="zh-TW" sz="1200" spc="-1" strike="noStrike" u="sng">
                <a:solidFill>
                  <a:srgbClr val="000000"/>
                </a:solidFill>
                <a:uFillTx/>
                <a:latin typeface="Calibri"/>
              </a:rPr>
              <a:t>人類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有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天災頻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氣候變化令天災頻仍，當中又以脆弱的貧窮人（如非洲的馬拉維、布隆迪和肯尼亞）特別受災，他們都是全球最貧窮的國家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水位上升令低窪地區氾濫更頻密，因海平面升髙了，颱風引起水浸的機會增加，因為颱風時會有風暴潮，水位比平時升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米，沿岸有些低窪地方便會出現水浸，這威脅人們的生計與人身安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水位上升亦令在太平洋的一些細小島國面臨國家快將消失的命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糧食短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全球增溫令水循環發生變化，影響了不少地區的降雨模式，現時全球三分之一人口面對著中度至高度的水短缺情況，影響農業發展與生計，健康與生命亦備受威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影響健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增加患上營養失調、腹瀉、心臟、呼吸病及傳染性疾病的風險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增加由熱浪、水災及乾旱引致的疾病及死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reensense.org.hk/plasticbag/subpage1b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樂施會互動教學中心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yberschool.oxfam.org.hk/articles.php?id=98&amp;page=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天文台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熱爆地球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youtube.com/watch?v=0LXk1wrPAI4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youtube.com/watch?v=6hOc370qVME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天文台（</a:t>
            </a: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weather.gov.hk/climate_change/climate_change_c.htm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2E20-3CFD-457F-9E20-0247AC03750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丟棄的膠袋以堆填的方式處理，多年都不能分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</a:rPr>
              <a:t>塑膠物品需要數百年時間才能消失，長期佔用堆填區位置，加速堆填區飽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土地污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堆填區會在廢物降解過程中產生堆填氣體和滲濾污水。堆填氣體既帶有臭味，又可能使人窒息，而且屬易燃氣體，容易引起爆炸，而滲濾污水如控制不當，則為高度污染物。滲濾污水為堆填區內污水從廢物堆中滲出時產生的液體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reensense.org.hk/plasticbag/subpage1b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legco.gov.hk/yr05-06/chinese/sec/library/0506in37-c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79FF-12C0-423D-A2E0-12E91F06355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焚化處理會釋放空氣污染物，例如最為人所熟悉的二噁英（</a:t>
            </a:r>
            <a:r>
              <a:rPr b="1" lang="tr-TR" sz="1200" spc="-1" strike="noStrike">
                <a:solidFill>
                  <a:srgbClr val="000000"/>
                </a:solidFill>
                <a:latin typeface="Calibri"/>
              </a:rPr>
              <a:t>Dioxin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保觸覺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greensense.org.hk/plasticbag/subpage1b.php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二噁英是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二噁英（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Dioxin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是一種持久性有機污染物（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Persistent Organic Pollutant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，也是世上毒性最強的物質之一。國際癌症研究組織（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International Agency for Research on Cancer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已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97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把二噁英列為致癌物質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麥苗教具有限公司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hkkids.com/green/green-topic01-story01.htm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二噁英有何害處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二噁英會隨著焚化廢物而產生的濃煙、灰燼、輕灰及污水傳入環境，透過氣流、水流散佈於空氣、水、土壤及污泥沉澱物之中，影響牲畜和魚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二噁英這種有毒物質，不易被分解，一旦產生，往往持久地存在於環境中，歷久不散，並易於在食物鏈內聚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百分之九十的二噁英是經由食物例如肉類、乳品、雞蛋及鮮魚等進入人體。吸收少量的二噁英，足以減弱我們的免疫系統，令甲狀腺和肝臟功能失調，影響生殖系統及和干擾荷爾蒙分泌。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當二噁英積聚在女性的乳房內，可以經母乳傳給嬰孩，做成嬰兒先天性缺陷，威脅嬰孩的健康。大量的二噁英積聚在人體，會使兒童發育遲緩、男性生殖荷爾蒙減少、糖尿病以致癌症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人類如意外地攝入大量二噁英，可引致氯痤瘡（一種皮膚病 ）、皮膚出疹及變色等皮膚病和體毛過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特別行政區政府食物安全中心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cfs.gov.hk/tc_chi/programme/programme_rafs/programme_rafs_fc_02_11.html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麥苗教具有限公司（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hkkids.com/green/green-topic01-story01.htm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AA62-5F70-4251-9DAF-75EECB4B70A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動物吃下膠袋／被膠袋膠圈勒住，影響生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逾九成塑膠不能被生物降解，可漂浮數十年，其毒性化合物如雙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等會釋入海洋，魚類、海龜、海鳥等會誤以為膠袋等垃圾是水母或烏賊而食用，塑膠毒性因而進入生物體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塑膠中的化合物，如壬基酚、鄰苯二甲酸鹽及雙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可影響生物的內分泌系統，從而影響荷爾蒙。落入海洋的塑膠，更會吸收「持久、生物累積和有毒物質」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T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），對生物帶來慢性問題，如擾亂內分泌、影響生育、誘發基因突變，也會增加患癌的機會。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研究從所蒐集的魚類中，發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％的胃裏含有塑粒垃圾，估計在北太平洋的中層海洋魚群，每年吃下的塑料，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萬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4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萬噸。研究人員亦在一條鯨魚體內發現多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0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磅塑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海獅被粉紅色風向袋包住，全身僅露出頭部，鰭狀肢無法如常伸展，終在茫茫大海中淹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少海豹更遭包裝貨物用的膠帶和膠圈勒住頸部，研究人員估計牠們或於年幼時已被勒住，但隨着牠們慢慢長大，膠帶把牠們束得愈來愈緊，慢慢把牠們勒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海龜和海鳥等動物亦受到海洋垃圾的威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動物將毒素帶入食物鏈，人類自食其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食膠魚」終或被人類捕獲進食，濫用塑膠的人類，害人終害己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早前有研究就發現本港市面出售的淡水魚和鹹水魚含有雙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雖然含量輕微，卻已經響起警號。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海生昆蟲（海黽）數量異常激增，危害海洋生態平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研究員發現一個令人憂心的現象：塑膠垃圾愈多的海域，肉食昆蟲海黽（粵音「猛」）的數量亦愈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海黽是生活於池塘、俗稱「水蜘蛛」或「水較剪」的水黽的近親。海黽是肉食性昆蟲，取食海中浮游生物、死水母、魚卵和孵出不久的小魚，惟不會潛入海裏捕食。海黽成蟲體長約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毫米，卻有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厘米的長足。雌性較雄性稍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科學家警告，若海洋塑粒密度持續擴大，海黽數量將繼續增加，代價可能就是浮游生物或魚卵大減。海黽大量繁殖過度取食，將使「海洋生態系統出現營養不足，那時候很多物種將現饑荒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資料和圖片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人類垃圾變兇器 謀殺海洋生物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東方日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7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國際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肉食性海黽 海面產卵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明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國際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垃圾漩渦產「膠魚」捕食恐中毒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東方日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18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港聞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ff0000"/>
                </a:solidFill>
                <a:latin typeface="Calibri"/>
              </a:rPr>
              <a:t>港耗膠量大 海岸垃圾之冠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大紀元時報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2011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11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日，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k.epochtimes.com/11/8/11/141384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200" spc="-1" strike="noStrike">
                <a:solidFill>
                  <a:srgbClr val="000000"/>
                </a:solidFill>
                <a:latin typeface="Calibri"/>
              </a:rPr>
              <a:t>塑膠垃圾掀太平洋蟲禍 膠粒成產卵溫牀 過量繁殖危害生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明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日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國際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Entanglement of Steller Sea Lions in marine debris: Identify causes and finding solutions (video)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ska Department of Fish and Game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adfg.alaska.gov/index.cfm?adfg=stellersealion.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eeturtles.org/1128/ocean-plasti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ana Islands Nature Alliance-A Pacific environmental organization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minapacific.org/sec.asp?secID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lastic bag makers sue ChicoBa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14 June 2011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oceana.org/en/blog/2011/06/plastic-bag-makers-sue-chicob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urtles, http://www.seeturtles.org/1128/ocean-plasti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3A5E-7223-4FF7-9399-707E082ADA7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8407-1511-43BF-9C29-9524A975FCB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讓學生反思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誰導致上述災禍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自己是不是其中一分子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投影片編號版面配置區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0925-2C35-4EC3-8B9E-0E7DF15CD7A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854D2B-9E09-443F-AF5D-0F85F5D2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C2ED57-3524-480A-B6F9-498BE285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FE801B-C29F-4583-AF7A-B5051DC1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3D7B38-D2E9-4172-BD20-F70BA08D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194B3D-8AEA-4B9B-A38F-A995EF5E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40FC7D-B74A-46CD-8279-4D8EF5BA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525BAC-2B30-46B8-A7AF-8EB3B0A9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FA2293-A1A4-4E02-8115-FEBDBF94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4D466-6D8B-489F-9BDD-CAD48CB4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AFFBFC-3976-401D-8A06-C24ACADA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0A508B-A3FD-4000-BF13-308FBA89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88A848-B197-4627-8EBC-2852047C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EB951C-4A98-42A5-BA39-7E606629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D0C97-D0F3-4592-AB38-3C778142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3E4CD-6CA8-450D-829E-8F7FAC9B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391E17-FC62-4A8A-966C-5938C5BF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C018E6-A205-4C50-8499-55940F28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F718A2-732E-4491-883B-E7FF5BC8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BF7A70-3337-4C28-A87A-D8F9FB47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98D9A-8E40-4E5A-8769-48C4E47C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22059A-8923-4164-B3F6-3F889F33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2CD04-0749-45DE-9D70-E0CC7B81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BE2F3E-8DFD-4D25-B00B-3BBF8958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BB9583-F4C8-4023-AC67-F9C448EE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7C46-531C-4987-9EF6-B465C40320BF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3"/>
          </p:nvPr>
        </p:nvSpPr>
        <p:spPr>
          <a:xfrm>
            <a:off x="57146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4973-69A8-401A-B838-FA4E5DC63381}" type="datetime">
              <a:rPr b="0" lang="zh-TW" sz="1200" spc="-1" strike="noStrike">
                <a:solidFill>
                  <a:srgbClr val="1f497d"/>
                </a:solidFill>
                <a:latin typeface="Comic Sans MS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4"/>
          </p:nvPr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dt" idx="5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F7D0-C4D7-4DAA-A3B9-2AF87DEA031A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6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D299-9CEE-4959-889D-50371D653125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8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5A33-6F5A-4BE5-BC9F-52F0029C87E4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9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4503-CBA5-484A-A1D7-41B4DD7A87D6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b.php" TargetMode="External"/><Relationship Id="rId5" Type="http://schemas.openxmlformats.org/officeDocument/2006/relationships/hyperlink" Target="http://woman.bloguez.com/woman/2729806/Plastic-Bag" TargetMode="External"/><Relationship Id="rId6" Type="http://schemas.openxmlformats.org/officeDocument/2006/relationships/hyperlink" Target="http://www.greensense.org.hk/plasticbag/subpage1b.php" TargetMode="External"/><Relationship Id="rId7" Type="http://schemas.openxmlformats.org/officeDocument/2006/relationships/hyperlink" Target="http://www.greensense.org.hk/plasticbag/subpage1b.php" TargetMode="External"/><Relationship Id="rId8" Type="http://schemas.openxmlformats.org/officeDocument/2006/relationships/hyperlink" Target="http://www.greensense.org.hk/plasticbag/subpage1b.php" TargetMode="External"/><Relationship Id="rId9" Type="http://schemas.openxmlformats.org/officeDocument/2006/relationships/hyperlink" Target="http://www.zazzle.com/wagner+bags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www.greensense.org.hk/plasticbag/subpage1b.php" TargetMode="External"/><Relationship Id="rId5" Type="http://schemas.openxmlformats.org/officeDocument/2006/relationships/hyperlink" Target="http://www.p-wholesale.com/subcat/13/573/bottle-p3.html" TargetMode="External"/><Relationship Id="rId6" Type="http://schemas.openxmlformats.org/officeDocument/2006/relationships/hyperlink" Target="http://www.greensense.org.hk/plasticbag/subpage1b.php" TargetMode="External"/><Relationship Id="rId7" Type="http://schemas.openxmlformats.org/officeDocument/2006/relationships/hyperlink" Target="http://www.greensense.org.hk/plasticbag/subpage1b.php" TargetMode="External"/><Relationship Id="rId8" Type="http://schemas.openxmlformats.org/officeDocument/2006/relationships/hyperlink" Target="http://www.greensense.org.hk/plasticbag/subpage1b.php" TargetMode="External"/><Relationship Id="rId9" Type="http://schemas.openxmlformats.org/officeDocument/2006/relationships/hyperlink" Target="http://www.mylespaul.com/forums/backstage/66897-water-moon-confirmed-nasa-2.html" TargetMode="External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reensense.org.hk/plasticbag/subpage1b.php" TargetMode="External"/><Relationship Id="rId2" Type="http://schemas.openxmlformats.org/officeDocument/2006/relationships/hyperlink" Target="http://www.greensense.org.hk/plasticbag/subpage1b.php" TargetMode="External"/><Relationship Id="rId3" Type="http://schemas.openxmlformats.org/officeDocument/2006/relationships/hyperlink" Target="http://www.greensense.org.hk/plasticbag/subpage1b.php" TargetMode="External"/><Relationship Id="rId4" Type="http://schemas.openxmlformats.org/officeDocument/2006/relationships/hyperlink" Target="http://it.123rf.com/photo_8102604_colorato-recycle-bin-isolato.html" TargetMode="External"/><Relationship Id="rId5" Type="http://schemas.openxmlformats.org/officeDocument/2006/relationships/hyperlink" Target="http://www.greensense.org.hk/plasticbag/subpage1b.php" TargetMode="External"/><Relationship Id="rId6" Type="http://schemas.openxmlformats.org/officeDocument/2006/relationships/hyperlink" Target="http://www.greensense.org.hk/plasticbag/subpage1b.php" TargetMode="External"/><Relationship Id="rId7" Type="http://schemas.openxmlformats.org/officeDocument/2006/relationships/hyperlink" Target="http://www.greensense.org.hk/plasticbag/subpage1b.php" TargetMode="External"/><Relationship Id="rId8" Type="http://schemas.openxmlformats.org/officeDocument/2006/relationships/hyperlink" Target="http://mammothcleaningsupplies.co.uk/refuse-bins-sacks/dustbins/black-dust-bin-80-litre-p1348.htm" TargetMode="External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37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8.wmf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三：我是預言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9409-669E-48FA-8787-F5B45B9AE8E1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我的選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36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知道塑膠對環境的影響後，以後</a:t>
            </a:r>
            <a:r>
              <a:rPr b="1" lang="zh-TW" sz="3200" spc="-1" strike="noStrike" u="sng">
                <a:solidFill>
                  <a:srgbClr val="000000"/>
                </a:solidFill>
                <a:uFillTx/>
                <a:latin typeface="Comic Sans MS"/>
                <a:ea typeface="新細明體"/>
              </a:rPr>
              <a:t>我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購物時，我會選擇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圖片 4" descr="Plastic-Bags3.jpg"/>
          <p:cNvPicPr/>
          <p:nvPr/>
        </p:nvPicPr>
        <p:blipFill>
          <a:blip r:embed="rId1"/>
          <a:srcRect l="0" t="14289" r="0" b="16325"/>
          <a:stretch/>
        </p:blipFill>
        <p:spPr>
          <a:xfrm>
            <a:off x="1211400" y="2492280"/>
            <a:ext cx="3216240" cy="2232000"/>
          </a:xfrm>
          <a:prstGeom prst="rect">
            <a:avLst/>
          </a:prstGeom>
          <a:ln w="0">
            <a:noFill/>
          </a:ln>
        </p:spPr>
      </p:pic>
      <p:sp>
        <p:nvSpPr>
          <p:cNvPr id="263" name="矩形 5"/>
          <p:cNvSpPr/>
          <p:nvPr/>
        </p:nvSpPr>
        <p:spPr>
          <a:xfrm>
            <a:off x="0" y="6611760"/>
            <a:ext cx="4427640" cy="26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http://woman.bloguez.com/woman/2729806/Plastic-B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6"/>
          <p:cNvSpPr/>
          <p:nvPr/>
        </p:nvSpPr>
        <p:spPr>
          <a:xfrm>
            <a:off x="5076720" y="6611760"/>
            <a:ext cx="4067280" cy="26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7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9"/>
              </a:rPr>
              <a:t>http://www.zazzle.com/wagner+ba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圖片 7" descr="recycle_environmental_bag-.jpg"/>
          <p:cNvPicPr/>
          <p:nvPr/>
        </p:nvPicPr>
        <p:blipFill>
          <a:blip r:embed="rId10"/>
          <a:stretch/>
        </p:blipFill>
        <p:spPr>
          <a:xfrm>
            <a:off x="5076720" y="177336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266" name="內容版面配置區 2"/>
          <p:cNvSpPr/>
          <p:nvPr/>
        </p:nvSpPr>
        <p:spPr>
          <a:xfrm>
            <a:off x="611280" y="4797360"/>
            <a:ext cx="82296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使用膠袋　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　　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自備購物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8"/>
          <p:cNvSpPr/>
          <p:nvPr/>
        </p:nvSpPr>
        <p:spPr>
          <a:xfrm>
            <a:off x="655308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2EEF-5AF7-43CB-8A66-D399E6A75FDD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FA70-8D06-4334-B134-5FE48C270A85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圖片 6" descr="thumbnail.jpg"/>
          <p:cNvPicPr/>
          <p:nvPr/>
        </p:nvPicPr>
        <p:blipFill>
          <a:blip r:embed="rId1"/>
          <a:srcRect l="5174" t="5568" r="15501" b="0"/>
          <a:stretch/>
        </p:blipFill>
        <p:spPr>
          <a:xfrm>
            <a:off x="5599080" y="787320"/>
            <a:ext cx="2212920" cy="42260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我的選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42560" y="486900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自備水樽　　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/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　  購買膠樽裝飲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矩形 3"/>
          <p:cNvSpPr/>
          <p:nvPr/>
        </p:nvSpPr>
        <p:spPr>
          <a:xfrm>
            <a:off x="0" y="6611760"/>
            <a:ext cx="4572000" cy="26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http://www.p-wholesale.com/subcat/13/573/bottle-p3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4"/>
          <p:cNvSpPr/>
          <p:nvPr/>
        </p:nvSpPr>
        <p:spPr>
          <a:xfrm>
            <a:off x="5076720" y="6458040"/>
            <a:ext cx="4067280" cy="43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7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9"/>
              </a:rPr>
              <a:t>http://www.mylespaul.com/forums/backstage/66897-water-moon-confirmed-nasa-2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圖片 5" descr="water-bottle-917.jpg"/>
          <p:cNvPicPr/>
          <p:nvPr/>
        </p:nvPicPr>
        <p:blipFill>
          <a:blip r:embed="rId10"/>
          <a:stretch/>
        </p:blipFill>
        <p:spPr>
          <a:xfrm>
            <a:off x="2068560" y="1427040"/>
            <a:ext cx="149544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91CA-3186-447B-88F0-3F152DE98045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我的選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回收塑膠廢物　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/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　 丟棄塑膠廢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矩形 3"/>
          <p:cNvSpPr/>
          <p:nvPr/>
        </p:nvSpPr>
        <p:spPr>
          <a:xfrm>
            <a:off x="0" y="6458040"/>
            <a:ext cx="4356000" cy="43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it.123rf.com/photo_8102604_colorato-recycle-bin-isolato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"/>
          <p:cNvSpPr/>
          <p:nvPr/>
        </p:nvSpPr>
        <p:spPr>
          <a:xfrm>
            <a:off x="4859280" y="6458040"/>
            <a:ext cx="4284720" cy="43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5"/>
              </a:rPr>
              <a:t>相片來源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:</a:t>
            </a:r>
            <a:r>
              <a:rPr b="0" lang="zh-TW" sz="1000" spc="-1" strike="noStrike" u="sng">
                <a:solidFill>
                  <a:srgbClr val="0000ff"/>
                </a:solidFill>
                <a:uFillTx/>
                <a:latin typeface="Comic Sans MS"/>
                <a:hlinkClick r:id="rId7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http://mammothcleaningsupplies.co.uk/refuse-bins-sacks/dustbins/black-dust-bin-80-litre-p1348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圖片 5" descr="bin.jpg"/>
          <p:cNvPicPr/>
          <p:nvPr/>
        </p:nvPicPr>
        <p:blipFill>
          <a:blip r:embed="rId9"/>
          <a:srcRect l="20793" t="6630" r="18625" b="6748"/>
          <a:stretch/>
        </p:blipFill>
        <p:spPr>
          <a:xfrm>
            <a:off x="5003640" y="1413000"/>
            <a:ext cx="3211560" cy="3240000"/>
          </a:xfrm>
          <a:prstGeom prst="rect">
            <a:avLst/>
          </a:prstGeom>
          <a:ln w="0">
            <a:noFill/>
          </a:ln>
        </p:spPr>
      </p:pic>
      <p:pic>
        <p:nvPicPr>
          <p:cNvPr id="284" name="圖片 6" descr="recycle-bin-isolato.jpg"/>
          <p:cNvPicPr/>
          <p:nvPr/>
        </p:nvPicPr>
        <p:blipFill>
          <a:blip r:embed="rId10"/>
          <a:srcRect l="4013" t="25200" r="3735" b="3400"/>
          <a:stretch/>
        </p:blipFill>
        <p:spPr>
          <a:xfrm>
            <a:off x="755640" y="1700280"/>
            <a:ext cx="38163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延伸問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圓角矩形圖說文字 4"/>
          <p:cNvSpPr/>
          <p:nvPr/>
        </p:nvSpPr>
        <p:spPr>
          <a:xfrm>
            <a:off x="3132000" y="1341360"/>
            <a:ext cx="4969080" cy="3167280"/>
          </a:xfrm>
          <a:prstGeom prst="wedgeRoundRectCallout">
            <a:avLst>
              <a:gd name="adj1" fmla="val -50527"/>
              <a:gd name="adj2" fmla="val 65777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很高興大家都選擇將我回收呀！但小朋友，你們有正確的回收知識嗎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圖片 10" descr="plastic2.gif"/>
          <p:cNvPicPr/>
          <p:nvPr/>
        </p:nvPicPr>
        <p:blipFill>
          <a:blip r:embed="rId1"/>
          <a:srcRect l="0" t="5876" r="91981" b="11897"/>
          <a:stretch/>
        </p:blipFill>
        <p:spPr>
          <a:xfrm>
            <a:off x="1187280" y="1773360"/>
            <a:ext cx="1635120" cy="508464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4E8E-A2B8-474B-B1B1-7C3514DFEB16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EC93-55F7-4085-ADE2-AF8BAE783F73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D:\Temp\Temporary Internet Files\Content.IE5\44RMH5NI\MP900406954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圓角矩形圖說文字 4"/>
          <p:cNvSpPr/>
          <p:nvPr/>
        </p:nvSpPr>
        <p:spPr>
          <a:xfrm>
            <a:off x="684360" y="287280"/>
            <a:ext cx="4895640" cy="3816360"/>
          </a:xfrm>
          <a:prstGeom prst="wedgeRoundRectCallout">
            <a:avLst>
              <a:gd name="adj1" fmla="val 79351"/>
              <a:gd name="adj2" fmla="val 30694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大家還記得我「膠樽仔」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當我被送到堆填區後，認識了很多塑膠朋友，但他們都很傷心，因為他們都說自己對環境有很大的影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圖片 5" descr="plastic2uuu.gif"/>
          <p:cNvPicPr/>
          <p:nvPr/>
        </p:nvPicPr>
        <p:blipFill>
          <a:blip r:embed="rId2"/>
          <a:srcRect l="0" t="0" r="49486" b="0"/>
          <a:stretch/>
        </p:blipFill>
        <p:spPr>
          <a:xfrm rot="20932800">
            <a:off x="1750680" y="3813120"/>
            <a:ext cx="4125960" cy="2479680"/>
          </a:xfrm>
          <a:prstGeom prst="rect">
            <a:avLst/>
          </a:prstGeom>
          <a:ln w="0">
            <a:noFill/>
          </a:ln>
        </p:spPr>
      </p:pic>
      <p:pic>
        <p:nvPicPr>
          <p:cNvPr id="174" name="內容版面配置區 5" descr="plastic2uuu.gif"/>
          <p:cNvPicPr/>
          <p:nvPr/>
        </p:nvPicPr>
        <p:blipFill>
          <a:blip r:embed="rId3"/>
          <a:srcRect l="0" t="2888" r="91253" b="13513"/>
          <a:stretch/>
        </p:blipFill>
        <p:spPr>
          <a:xfrm rot="2083800">
            <a:off x="7114680" y="2381400"/>
            <a:ext cx="8463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grpSp>
        <p:nvGrpSpPr>
          <p:cNvPr id="177" name="群組 23"/>
          <p:cNvGrpSpPr/>
          <p:nvPr/>
        </p:nvGrpSpPr>
        <p:grpSpPr>
          <a:xfrm>
            <a:off x="250920" y="3429000"/>
            <a:ext cx="8599320" cy="2840040"/>
            <a:chOff x="250920" y="3429000"/>
            <a:chExt cx="8599320" cy="2840040"/>
          </a:xfrm>
        </p:grpSpPr>
        <p:pic>
          <p:nvPicPr>
            <p:cNvPr id="178" name="Picture 3" descr=""/>
            <p:cNvPicPr/>
            <p:nvPr/>
          </p:nvPicPr>
          <p:blipFill>
            <a:blip r:embed="rId1"/>
            <a:stretch/>
          </p:blipFill>
          <p:spPr>
            <a:xfrm>
              <a:off x="6660720" y="3429000"/>
              <a:ext cx="218952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文字方塊 8"/>
            <p:cNvSpPr/>
            <p:nvPr/>
          </p:nvSpPr>
          <p:spPr>
            <a:xfrm>
              <a:off x="5652360" y="3501000"/>
              <a:ext cx="5040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ff0000"/>
                  </a:solidFill>
                  <a:latin typeface="Comic Sans MS"/>
                </a:rPr>
                <a:t>=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圖片 9" descr="石油.gif"/>
            <p:cNvPicPr/>
            <p:nvPr/>
          </p:nvPicPr>
          <p:blipFill>
            <a:blip r:embed="rId2"/>
            <a:stretch/>
          </p:blipFill>
          <p:spPr>
            <a:xfrm>
              <a:off x="75492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圖片 10" descr="石油.gif"/>
            <p:cNvPicPr/>
            <p:nvPr/>
          </p:nvPicPr>
          <p:blipFill>
            <a:blip r:embed="rId3"/>
            <a:stretch/>
          </p:blipFill>
          <p:spPr>
            <a:xfrm>
              <a:off x="169128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圖片 11" descr="石油.gif"/>
            <p:cNvPicPr/>
            <p:nvPr/>
          </p:nvPicPr>
          <p:blipFill>
            <a:blip r:embed="rId4"/>
            <a:stretch/>
          </p:blipFill>
          <p:spPr>
            <a:xfrm>
              <a:off x="262728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圖片 12" descr="石油.gif"/>
            <p:cNvPicPr/>
            <p:nvPr/>
          </p:nvPicPr>
          <p:blipFill>
            <a:blip r:embed="rId5"/>
            <a:stretch/>
          </p:blipFill>
          <p:spPr>
            <a:xfrm>
              <a:off x="363564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圖片 13" descr="石油.gif"/>
            <p:cNvPicPr/>
            <p:nvPr/>
          </p:nvPicPr>
          <p:blipFill>
            <a:blip r:embed="rId6"/>
            <a:stretch/>
          </p:blipFill>
          <p:spPr>
            <a:xfrm>
              <a:off x="4572000" y="3789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圖片 14" descr="石油.gif"/>
            <p:cNvPicPr/>
            <p:nvPr/>
          </p:nvPicPr>
          <p:blipFill>
            <a:blip r:embed="rId7"/>
            <a:stretch/>
          </p:blipFill>
          <p:spPr>
            <a:xfrm>
              <a:off x="25092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圖片 15" descr="石油.gif"/>
            <p:cNvPicPr/>
            <p:nvPr/>
          </p:nvPicPr>
          <p:blipFill>
            <a:blip r:embed="rId8"/>
            <a:stretch/>
          </p:blipFill>
          <p:spPr>
            <a:xfrm>
              <a:off x="118692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圖片 16" descr="石油.gif"/>
            <p:cNvPicPr/>
            <p:nvPr/>
          </p:nvPicPr>
          <p:blipFill>
            <a:blip r:embed="rId9"/>
            <a:stretch/>
          </p:blipFill>
          <p:spPr>
            <a:xfrm>
              <a:off x="212328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圖片 17" descr="石油.gif"/>
            <p:cNvPicPr/>
            <p:nvPr/>
          </p:nvPicPr>
          <p:blipFill>
            <a:blip r:embed="rId10"/>
            <a:stretch/>
          </p:blipFill>
          <p:spPr>
            <a:xfrm>
              <a:off x="305964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圖片 18" descr="石油.gif"/>
            <p:cNvPicPr/>
            <p:nvPr/>
          </p:nvPicPr>
          <p:blipFill>
            <a:blip r:embed="rId11"/>
            <a:stretch/>
          </p:blipFill>
          <p:spPr>
            <a:xfrm>
              <a:off x="399564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圖片 19" descr="石油.gif"/>
            <p:cNvPicPr/>
            <p:nvPr/>
          </p:nvPicPr>
          <p:blipFill>
            <a:blip r:embed="rId12"/>
            <a:stretch/>
          </p:blipFill>
          <p:spPr>
            <a:xfrm>
              <a:off x="4932000" y="5013000"/>
              <a:ext cx="850680" cy="104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圓角矩形圖說文字 27"/>
          <p:cNvSpPr/>
          <p:nvPr/>
        </p:nvSpPr>
        <p:spPr>
          <a:xfrm>
            <a:off x="250920" y="189000"/>
            <a:ext cx="8642160" cy="1511280"/>
          </a:xfrm>
          <a:prstGeom prst="wedgeRoundRectCallout">
            <a:avLst>
              <a:gd name="adj1" fmla="val -50537"/>
              <a:gd name="adj2" fmla="val 35296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究竟製造塑膠對環境帶來甚麼影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雲朵形圖說文字 21"/>
          <p:cNvSpPr/>
          <p:nvPr/>
        </p:nvSpPr>
        <p:spPr>
          <a:xfrm>
            <a:off x="1692360" y="1413000"/>
            <a:ext cx="6875280" cy="2160360"/>
          </a:xfrm>
          <a:prstGeom prst="cloudCallout">
            <a:avLst>
              <a:gd name="adj1" fmla="val 34638"/>
              <a:gd name="adj2" fmla="val -46564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塑膠是用甚麼製造的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Users\user\AppData\Local\Microsoft\Windows\Temporary Internet Files\Content.IE5\L4XEIEWS\MC900423828[1].wmf"/>
          <p:cNvPicPr/>
          <p:nvPr/>
        </p:nvPicPr>
        <p:blipFill>
          <a:blip r:embed="rId13"/>
          <a:stretch/>
        </p:blipFill>
        <p:spPr>
          <a:xfrm rot="21364200">
            <a:off x="7833960" y="1238400"/>
            <a:ext cx="1257120" cy="1584000"/>
          </a:xfrm>
          <a:prstGeom prst="rect">
            <a:avLst/>
          </a:prstGeom>
          <a:ln w="0">
            <a:noFill/>
          </a:ln>
        </p:spPr>
      </p:pic>
      <p:sp>
        <p:nvSpPr>
          <p:cNvPr id="194" name="內容版面配置區 2"/>
          <p:cNvSpPr/>
          <p:nvPr/>
        </p:nvSpPr>
        <p:spPr>
          <a:xfrm>
            <a:off x="1908000" y="5021280"/>
            <a:ext cx="511200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能源短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內容版面配置區 2"/>
          <p:cNvSpPr/>
          <p:nvPr/>
        </p:nvSpPr>
        <p:spPr>
          <a:xfrm>
            <a:off x="468360" y="3500280"/>
            <a:ext cx="511164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石油耗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01DF-9E2D-4735-A842-EA7D7D66DBF5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C:\Users\user\AppData\Local\Microsoft\Windows\Temporary Internet Files\Content.IE5\L4XEIEWS\MM900282869[1].gif"/>
          <p:cNvPicPr/>
          <p:nvPr/>
        </p:nvPicPr>
        <p:blipFill>
          <a:blip r:embed="rId1"/>
          <a:stretch/>
        </p:blipFill>
        <p:spPr>
          <a:xfrm>
            <a:off x="2916360" y="3357720"/>
            <a:ext cx="3887640" cy="2896920"/>
          </a:xfrm>
          <a:prstGeom prst="rect">
            <a:avLst/>
          </a:prstGeom>
          <a:ln w="0">
            <a:noFill/>
          </a:ln>
        </p:spPr>
      </p:pic>
      <p:sp>
        <p:nvSpPr>
          <p:cNvPr id="198" name="雲朵形圖說文字 6"/>
          <p:cNvSpPr/>
          <p:nvPr/>
        </p:nvSpPr>
        <p:spPr>
          <a:xfrm>
            <a:off x="468360" y="2492280"/>
            <a:ext cx="2590920" cy="2016360"/>
          </a:xfrm>
          <a:prstGeom prst="cloudCallout">
            <a:avLst>
              <a:gd name="adj1" fmla="val 56462"/>
              <a:gd name="adj2" fmla="val 37194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Comic Sans MS"/>
              </a:rPr>
              <a:t>二氧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0000"/>
                </a:solidFill>
                <a:latin typeface="Comic Sans MS"/>
              </a:rPr>
              <a:t>化碳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雲朵形圖說文字 7"/>
          <p:cNvSpPr/>
          <p:nvPr/>
        </p:nvSpPr>
        <p:spPr>
          <a:xfrm>
            <a:off x="5651640" y="2924280"/>
            <a:ext cx="3168360" cy="1657080"/>
          </a:xfrm>
          <a:prstGeom prst="cloudCallout">
            <a:avLst>
              <a:gd name="adj1" fmla="val -46439"/>
              <a:gd name="adj2" fmla="val 57949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omic Sans MS"/>
              </a:rPr>
              <a:t>一氧化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雲朵形圖說文字 10"/>
          <p:cNvSpPr/>
          <p:nvPr/>
        </p:nvSpPr>
        <p:spPr>
          <a:xfrm>
            <a:off x="1835280" y="189000"/>
            <a:ext cx="6877080" cy="2303280"/>
          </a:xfrm>
          <a:prstGeom prst="cloudCallout">
            <a:avLst>
              <a:gd name="adj1" fmla="val -50888"/>
              <a:gd name="adj2" fmla="val -23476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製造塑膠的過程會如何破壞環境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:\Users\user\AppData\Local\Microsoft\Windows\Temporary Internet Files\Content.IE5\0YFQWHE2\MC900434411[1].wmf"/>
          <p:cNvPicPr/>
          <p:nvPr/>
        </p:nvPicPr>
        <p:blipFill>
          <a:blip r:embed="rId2"/>
          <a:stretch/>
        </p:blipFill>
        <p:spPr>
          <a:xfrm>
            <a:off x="611280" y="620640"/>
            <a:ext cx="1625400" cy="1656000"/>
          </a:xfrm>
          <a:prstGeom prst="rect">
            <a:avLst/>
          </a:prstGeom>
          <a:ln w="0">
            <a:noFill/>
          </a:ln>
        </p:spPr>
      </p:pic>
      <p:sp>
        <p:nvSpPr>
          <p:cNvPr id="202" name="內容版面配置區 2"/>
          <p:cNvSpPr/>
          <p:nvPr/>
        </p:nvSpPr>
        <p:spPr>
          <a:xfrm>
            <a:off x="611280" y="3220920"/>
            <a:ext cx="525600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全球增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內容版面配置區 2"/>
          <p:cNvSpPr/>
          <p:nvPr/>
        </p:nvSpPr>
        <p:spPr>
          <a:xfrm>
            <a:off x="2916360" y="4653000"/>
            <a:ext cx="5256000" cy="14400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天災頻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43BC-29F0-48EE-89B7-5C39B43F7FD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530280" y="3068640"/>
            <a:ext cx="8074080" cy="3097080"/>
          </a:xfrm>
          <a:prstGeom prst="rect">
            <a:avLst/>
          </a:prstGeom>
          <a:ln w="0">
            <a:noFill/>
          </a:ln>
        </p:spPr>
      </p:pic>
      <p:sp>
        <p:nvSpPr>
          <p:cNvPr id="209" name="向右箭號 6"/>
          <p:cNvSpPr/>
          <p:nvPr/>
        </p:nvSpPr>
        <p:spPr>
          <a:xfrm>
            <a:off x="3276720" y="3357720"/>
            <a:ext cx="2303280" cy="136656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一百年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雲朵形圖說文字 7"/>
          <p:cNvSpPr/>
          <p:nvPr/>
        </p:nvSpPr>
        <p:spPr>
          <a:xfrm>
            <a:off x="539640" y="404640"/>
            <a:ext cx="7164360" cy="2592720"/>
          </a:xfrm>
          <a:prstGeom prst="cloudCallout">
            <a:avLst>
              <a:gd name="adj1" fmla="val 49750"/>
              <a:gd name="adj2" fmla="val 3424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以堆填方式處理塑膠，會否對環境造成破壞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C:\Users\user\AppData\Local\Microsoft\Windows\Temporary Internet Files\Content.IE5\0YFQWHE2\MC900434411[1].wmf"/>
          <p:cNvPicPr/>
          <p:nvPr/>
        </p:nvPicPr>
        <p:blipFill>
          <a:blip r:embed="rId2"/>
          <a:stretch/>
        </p:blipFill>
        <p:spPr>
          <a:xfrm>
            <a:off x="7236000" y="1052640"/>
            <a:ext cx="1625400" cy="1655640"/>
          </a:xfrm>
          <a:prstGeom prst="rect">
            <a:avLst/>
          </a:prstGeom>
          <a:ln w="0">
            <a:noFill/>
          </a:ln>
        </p:spPr>
      </p:pic>
      <p:sp>
        <p:nvSpPr>
          <p:cNvPr id="212" name="內容版面配置區 2"/>
          <p:cNvSpPr/>
          <p:nvPr/>
        </p:nvSpPr>
        <p:spPr>
          <a:xfrm>
            <a:off x="755640" y="4508640"/>
            <a:ext cx="3887640" cy="12967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土地污染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內容版面配置區 2"/>
          <p:cNvSpPr/>
          <p:nvPr/>
        </p:nvSpPr>
        <p:spPr>
          <a:xfrm>
            <a:off x="971640" y="3068640"/>
            <a:ext cx="730728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加速堆填區飽和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內容版面配置區 2"/>
          <p:cNvSpPr/>
          <p:nvPr/>
        </p:nvSpPr>
        <p:spPr>
          <a:xfrm>
            <a:off x="4643280" y="4508640"/>
            <a:ext cx="3816360" cy="12967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空氣污染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32A3-18DA-43E5-B73D-1F505A8D5979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18" name="雲朵形圖說文字 4"/>
          <p:cNvSpPr/>
          <p:nvPr/>
        </p:nvSpPr>
        <p:spPr>
          <a:xfrm>
            <a:off x="5003640" y="3141720"/>
            <a:ext cx="2737080" cy="1727280"/>
          </a:xfrm>
          <a:prstGeom prst="cloudCallout">
            <a:avLst>
              <a:gd name="adj1" fmla="val -39356"/>
              <a:gd name="adj2" fmla="val 66481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omic Sans MS"/>
              </a:rPr>
              <a:t>二噁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3313080" cy="3070080"/>
          </a:xfrm>
          <a:prstGeom prst="rect">
            <a:avLst/>
          </a:prstGeom>
          <a:ln w="0">
            <a:noFill/>
          </a:ln>
        </p:spPr>
      </p:pic>
      <p:sp>
        <p:nvSpPr>
          <p:cNvPr id="220" name="雲朵形圖說文字 6"/>
          <p:cNvSpPr/>
          <p:nvPr/>
        </p:nvSpPr>
        <p:spPr>
          <a:xfrm>
            <a:off x="324000" y="620640"/>
            <a:ext cx="7164360" cy="2303640"/>
          </a:xfrm>
          <a:prstGeom prst="cloudCallout">
            <a:avLst>
              <a:gd name="adj1" fmla="val 47939"/>
              <a:gd name="adj2" fmla="val -42416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以焚化方式處理塑膠，會否對環境造成破壞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C:\Users\user\AppData\Local\Microsoft\Windows\Temporary Internet Files\Content.IE5\0YFQWHE2\MC900434411[1].wmf"/>
          <p:cNvPicPr/>
          <p:nvPr/>
        </p:nvPicPr>
        <p:blipFill>
          <a:blip r:embed="rId2"/>
          <a:stretch/>
        </p:blipFill>
        <p:spPr>
          <a:xfrm>
            <a:off x="7020000" y="476280"/>
            <a:ext cx="1625400" cy="165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D:\Temp\Temporary Internet Files\Content.IE5\HDXSWTAK\MC900436397[1].png"/>
          <p:cNvPicPr/>
          <p:nvPr/>
        </p:nvPicPr>
        <p:blipFill>
          <a:blip r:embed="rId3"/>
          <a:stretch/>
        </p:blipFill>
        <p:spPr>
          <a:xfrm rot="21282600">
            <a:off x="7021440" y="3573360"/>
            <a:ext cx="1656000" cy="1656000"/>
          </a:xfrm>
          <a:prstGeom prst="rect">
            <a:avLst/>
          </a:prstGeom>
          <a:ln w="0">
            <a:noFill/>
          </a:ln>
        </p:spPr>
      </p:pic>
      <p:sp>
        <p:nvSpPr>
          <p:cNvPr id="223" name="內容版面配置區 2"/>
          <p:cNvSpPr/>
          <p:nvPr/>
        </p:nvSpPr>
        <p:spPr>
          <a:xfrm>
            <a:off x="3348000" y="4724280"/>
            <a:ext cx="3095640" cy="14320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8000" spc="-1" strike="noStrike">
                <a:solidFill>
                  <a:srgbClr val="ffffff"/>
                </a:solidFill>
                <a:latin typeface="Comic Sans MS"/>
              </a:rPr>
              <a:t>致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B3AA-8212-42A6-AFD8-A13BA72BDD13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8E08-79DD-4061-BF52-7AA99D68ACB6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rcRect l="5655" t="0" r="5740" b="9682"/>
          <a:stretch/>
        </p:blipFill>
        <p:spPr>
          <a:xfrm>
            <a:off x="108000" y="2205000"/>
            <a:ext cx="3456000" cy="1986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duck_with_plastic.jpg"/>
          <p:cNvPicPr/>
          <p:nvPr/>
        </p:nvPicPr>
        <p:blipFill>
          <a:blip r:embed="rId2"/>
          <a:srcRect l="0" t="19814" r="0" b="0"/>
          <a:stretch/>
        </p:blipFill>
        <p:spPr>
          <a:xfrm>
            <a:off x="3598920" y="2637000"/>
            <a:ext cx="3276720" cy="17478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31" name="內容版面配置區 2"/>
          <p:cNvSpPr/>
          <p:nvPr/>
        </p:nvSpPr>
        <p:spPr>
          <a:xfrm>
            <a:off x="250920" y="1268280"/>
            <a:ext cx="5184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雲朵形圖說文字 11"/>
          <p:cNvSpPr/>
          <p:nvPr/>
        </p:nvSpPr>
        <p:spPr>
          <a:xfrm>
            <a:off x="1763640" y="260280"/>
            <a:ext cx="6875640" cy="2305080"/>
          </a:xfrm>
          <a:prstGeom prst="cloudCallout">
            <a:avLst>
              <a:gd name="adj1" fmla="val -49379"/>
              <a:gd name="adj2" fmla="val -3790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想一想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Comic Sans MS"/>
              </a:rPr>
              <a:t>胡亂丟棄塑膠對生態造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成甚麼破壞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C:\Users\user\AppData\Local\Microsoft\Windows\Temporary Internet Files\Content.IE5\0YFQWHE2\MC900434411[1].wmf"/>
          <p:cNvPicPr/>
          <p:nvPr/>
        </p:nvPicPr>
        <p:blipFill>
          <a:blip r:embed="rId3"/>
          <a:stretch/>
        </p:blipFill>
        <p:spPr>
          <a:xfrm>
            <a:off x="250920" y="333360"/>
            <a:ext cx="1625400" cy="1655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NBC_Bird_in_Plastic.png"/>
          <p:cNvPicPr/>
          <p:nvPr/>
        </p:nvPicPr>
        <p:blipFill>
          <a:blip r:embed="rId4"/>
          <a:stretch/>
        </p:blipFill>
        <p:spPr>
          <a:xfrm>
            <a:off x="6192720" y="4076640"/>
            <a:ext cx="2987640" cy="217800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23"/>
          <p:cNvGrpSpPr/>
          <p:nvPr/>
        </p:nvGrpSpPr>
        <p:grpSpPr>
          <a:xfrm>
            <a:off x="6875640" y="1916280"/>
            <a:ext cx="2017440" cy="2089080"/>
            <a:chOff x="6875640" y="1916280"/>
            <a:chExt cx="2017440" cy="2089080"/>
          </a:xfrm>
        </p:grpSpPr>
        <p:pic>
          <p:nvPicPr>
            <p:cNvPr id="236" name="Picture 3" descr="海黽.jpg"/>
            <p:cNvPicPr/>
            <p:nvPr/>
          </p:nvPicPr>
          <p:blipFill>
            <a:blip r:embed="rId5"/>
            <a:srcRect l="10677" t="8803" r="35037" b="23724"/>
            <a:stretch/>
          </p:blipFill>
          <p:spPr>
            <a:xfrm>
              <a:off x="6875640" y="2441160"/>
              <a:ext cx="1880280" cy="156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TextBox 19"/>
            <p:cNvGrpSpPr/>
            <p:nvPr/>
          </p:nvGrpSpPr>
          <p:grpSpPr>
            <a:xfrm>
              <a:off x="8148960" y="1916280"/>
              <a:ext cx="744120" cy="1081800"/>
              <a:chOff x="8148960" y="1916280"/>
              <a:chExt cx="744120" cy="1081800"/>
            </a:xfrm>
          </p:grpSpPr>
          <p:pic>
            <p:nvPicPr>
              <p:cNvPr id="238" name="TextBox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148960" y="1916280"/>
                <a:ext cx="744120" cy="10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8285760" y="2032920"/>
                <a:ext cx="47016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500" spc="-1" strike="noStrike">
                    <a:solidFill>
                      <a:srgbClr val="ffffff"/>
                    </a:solidFill>
                    <a:latin typeface="Comic Sans MS"/>
                  </a:rPr>
                  <a:t>海黽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內容版面配置區 2"/>
          <p:cNvSpPr/>
          <p:nvPr/>
        </p:nvSpPr>
        <p:spPr>
          <a:xfrm>
            <a:off x="1116000" y="2276640"/>
            <a:ext cx="6335640" cy="14396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危害生態平衡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7"/>
          <a:srcRect l="14156" t="15216" r="27352" b="0"/>
          <a:stretch/>
        </p:blipFill>
        <p:spPr>
          <a:xfrm>
            <a:off x="108000" y="4214880"/>
            <a:ext cx="3095640" cy="2527200"/>
          </a:xfrm>
          <a:prstGeom prst="rect">
            <a:avLst/>
          </a:prstGeom>
          <a:ln w="0">
            <a:noFill/>
          </a:ln>
        </p:spPr>
      </p:pic>
      <p:pic>
        <p:nvPicPr>
          <p:cNvPr id="242" name="圖片 22" descr="248.jpg"/>
          <p:cNvPicPr/>
          <p:nvPr/>
        </p:nvPicPr>
        <p:blipFill>
          <a:blip r:embed="rId8"/>
          <a:stretch/>
        </p:blipFill>
        <p:spPr>
          <a:xfrm>
            <a:off x="3203640" y="4437000"/>
            <a:ext cx="2944800" cy="2160720"/>
          </a:xfrm>
          <a:prstGeom prst="rect">
            <a:avLst/>
          </a:prstGeom>
          <a:ln w="0">
            <a:noFill/>
          </a:ln>
        </p:spPr>
      </p:pic>
      <p:sp>
        <p:nvSpPr>
          <p:cNvPr id="243" name="內容版面配置區 2"/>
          <p:cNvSpPr/>
          <p:nvPr/>
        </p:nvSpPr>
        <p:spPr>
          <a:xfrm>
            <a:off x="1908000" y="5157720"/>
            <a:ext cx="6336000" cy="1366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人類自食其果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內容版面配置區 2"/>
          <p:cNvSpPr/>
          <p:nvPr/>
        </p:nvSpPr>
        <p:spPr>
          <a:xfrm>
            <a:off x="2987640" y="3789360"/>
            <a:ext cx="4464000" cy="129528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TW" sz="7000" spc="-1" strike="noStrike">
                <a:solidFill>
                  <a:srgbClr val="ffffff"/>
                </a:solidFill>
                <a:latin typeface="Comic Sans MS"/>
              </a:rPr>
              <a:t>生物絕種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 </a:t>
            </a: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　</a:t>
            </a:r>
            <a:r>
              <a:rPr b="1" lang="zh-TW" sz="6000" spc="-1" strike="noStrike">
                <a:solidFill>
                  <a:srgbClr val="660033"/>
                </a:solidFill>
                <a:latin typeface="Comic Sans MS"/>
                <a:ea typeface="新細明體"/>
              </a:rPr>
              <a:t>我是預言家！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圓角矩形圖說文字 4"/>
          <p:cNvSpPr/>
          <p:nvPr/>
        </p:nvSpPr>
        <p:spPr>
          <a:xfrm>
            <a:off x="353880" y="1916280"/>
            <a:ext cx="8610840" cy="3313080"/>
          </a:xfrm>
          <a:prstGeom prst="wedgeRoundRectCallout">
            <a:avLst>
              <a:gd name="adj1" fmla="val -3240"/>
              <a:gd name="adj2" fmla="val 69337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小朋友，如果人們使用塑膠的習慣不變，你能扮演預言家，預言這對五十年後的</a:t>
            </a:r>
            <a:r>
              <a:rPr b="1" lang="zh-TW" sz="3500" spc="-1" strike="noStrike" u="sng">
                <a:solidFill>
                  <a:srgbClr val="000000"/>
                </a:solidFill>
                <a:uFillTx/>
                <a:latin typeface="Comic Sans MS"/>
              </a:rPr>
              <a:t>人類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TW" sz="3500" spc="-1" strike="noStrike" u="sng">
                <a:solidFill>
                  <a:srgbClr val="000000"/>
                </a:solidFill>
                <a:uFillTx/>
                <a:latin typeface="Comic Sans MS"/>
              </a:rPr>
              <a:t>動物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1" lang="zh-TW" sz="3500" spc="-1" strike="noStrike" u="sng">
                <a:solidFill>
                  <a:srgbClr val="000000"/>
                </a:solidFill>
                <a:uFillTx/>
                <a:latin typeface="Comic Sans MS"/>
              </a:rPr>
              <a:t>植物</a:t>
            </a: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會有甚麼影響嗎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C:\Users\user\AppData\Local\Microsoft\Windows\Temporary Internet Files\Content.IE5\0YFQWHE2\MC900318654[1].wmf"/>
          <p:cNvPicPr/>
          <p:nvPr/>
        </p:nvPicPr>
        <p:blipFill>
          <a:blip r:embed="rId1"/>
          <a:stretch/>
        </p:blipFill>
        <p:spPr>
          <a:xfrm>
            <a:off x="900000" y="0"/>
            <a:ext cx="2159280" cy="2336760"/>
          </a:xfrm>
          <a:prstGeom prst="rect">
            <a:avLst/>
          </a:prstGeom>
          <a:ln w="0">
            <a:noFill/>
          </a:ln>
        </p:spPr>
      </p:pic>
      <p:pic>
        <p:nvPicPr>
          <p:cNvPr id="250" name="內容版面配置區 5" descr="plastic2uuu.gif"/>
          <p:cNvPicPr/>
          <p:nvPr/>
        </p:nvPicPr>
        <p:blipFill>
          <a:blip r:embed="rId2"/>
          <a:srcRect l="50751" t="0" r="0" b="0"/>
          <a:stretch/>
        </p:blipFill>
        <p:spPr>
          <a:xfrm>
            <a:off x="4427640" y="4459320"/>
            <a:ext cx="4052880" cy="249876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D0F8-331D-4973-8142-A01B0B152119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圓角矩形圖說文字 6"/>
          <p:cNvSpPr/>
          <p:nvPr/>
        </p:nvSpPr>
        <p:spPr>
          <a:xfrm>
            <a:off x="395280" y="189000"/>
            <a:ext cx="8394840" cy="1224000"/>
          </a:xfrm>
          <a:prstGeom prst="wedgeRoundRectCallout">
            <a:avLst>
              <a:gd name="adj1" fmla="val -11115"/>
              <a:gd name="adj2" fmla="val 65527"/>
              <a:gd name="adj3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小朋友，你認為這是誰的過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雲朵形圖說文字 3"/>
          <p:cNvSpPr/>
          <p:nvPr/>
        </p:nvSpPr>
        <p:spPr>
          <a:xfrm>
            <a:off x="1763640" y="3429000"/>
            <a:ext cx="2521080" cy="1295280"/>
          </a:xfrm>
          <a:prstGeom prst="cloudCallout">
            <a:avLst>
              <a:gd name="adj1" fmla="val 27814"/>
              <a:gd name="adj2" fmla="val 6731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塑膠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雲朵形圖說文字 4"/>
          <p:cNvSpPr/>
          <p:nvPr/>
        </p:nvSpPr>
        <p:spPr>
          <a:xfrm>
            <a:off x="250920" y="1484280"/>
            <a:ext cx="3492360" cy="1978200"/>
          </a:xfrm>
          <a:prstGeom prst="cloudCallout">
            <a:avLst>
              <a:gd name="adj1" fmla="val -38768"/>
              <a:gd name="adj2" fmla="val 55148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製造塑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的人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雲朵形圖說文字 7"/>
          <p:cNvSpPr/>
          <p:nvPr/>
        </p:nvSpPr>
        <p:spPr>
          <a:xfrm>
            <a:off x="3745080" y="1197000"/>
            <a:ext cx="5148000" cy="1511280"/>
          </a:xfrm>
          <a:prstGeom prst="cloudCallout">
            <a:avLst>
              <a:gd name="adj1" fmla="val 32189"/>
              <a:gd name="adj2" fmla="val 59606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濫用塑膠的人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雲朵形圖說文字 8"/>
          <p:cNvSpPr/>
          <p:nvPr/>
        </p:nvSpPr>
        <p:spPr>
          <a:xfrm>
            <a:off x="4356000" y="2852640"/>
            <a:ext cx="4429080" cy="1800360"/>
          </a:xfrm>
          <a:prstGeom prst="cloudCallout">
            <a:avLst>
              <a:gd name="adj1" fmla="val -29277"/>
              <a:gd name="adj2" fmla="val 63652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胡亂丟棄塑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omic Sans MS"/>
              </a:rPr>
              <a:t>的人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內容版面配置區 5" descr="plastic2uuu.gif"/>
          <p:cNvPicPr/>
          <p:nvPr/>
        </p:nvPicPr>
        <p:blipFill>
          <a:blip r:embed="rId1"/>
          <a:stretch/>
        </p:blipFill>
        <p:spPr>
          <a:xfrm>
            <a:off x="539640" y="4221000"/>
            <a:ext cx="8229600" cy="2498760"/>
          </a:xfrm>
          <a:prstGeom prst="rect">
            <a:avLst/>
          </a:prstGeom>
          <a:ln w="0">
            <a:noFill/>
          </a:ln>
        </p:spPr>
      </p:pic>
      <p:sp>
        <p:nvSpPr>
          <p:cNvPr id="259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587E-3010-434D-B9AA-C9A3642CF441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18:42:01Z</dcterms:created>
  <dc:creator>Jennifer Chan</dc:creator>
  <dc:description/>
  <dc:language>en-US</dc:language>
  <cp:lastModifiedBy>HKIEd</cp:lastModifiedBy>
  <dcterms:modified xsi:type="dcterms:W3CDTF">2013-04-02T07:10:52Z</dcterms:modified>
  <cp:revision>124</cp:revision>
  <dc:subject/>
  <dc:title>課節二：為什麼要送我到堆填區？ </dc:title>
</cp:coreProperties>
</file>